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breeze.wav" ContentType="audio/x-wav"/>
  <Override PartName="/ppt/media/camera.wav" ContentType="audio/x-wav"/>
  <Override PartName="/ppt/media/image1.jpeg" ContentType="image/jpeg"/>
  <Override PartName="/ppt/media/image7.png" ContentType="image/png"/>
  <Override PartName="/ppt/media/wind.wav" ContentType="audio/x-wav"/>
  <Override PartName="/ppt/media/chimes.wav" ContentType="audio/x-wav"/>
  <Override PartName="/ppt/media/image4.png" ContentType="image/png"/>
  <Override PartName="/ppt/media/laser.wav" ContentType="audio/x-wav"/>
  <Override PartName="/ppt/media/image9.png" ContentType="image/png"/>
  <Override PartName="/ppt/media/cashreg.wav" ContentType="audio/x-wav"/>
  <Override PartName="/ppt/media/hammer.wav" ContentType="audio/x-wav"/>
  <Override PartName="/ppt/media/image13.png" ContentType="image/png"/>
  <Override PartName="/ppt/media/click.wav" ContentType="audio/x-wav"/>
  <Override PartName="/ppt/media/image8.png" ContentType="image/png"/>
  <Override PartName="/ppt/media/suction.wav" ContentType="audio/x-wav"/>
  <Override PartName="/ppt/media/image2.png" ContentType="image/png"/>
  <Override PartName="/ppt/media/image6.png" ContentType="image/png"/>
  <Override PartName="/ppt/media/image3.png" ContentType="image/png"/>
  <Override PartName="/ppt/media/coin.wav" ContentType="audio/x-wav"/>
  <Override PartName="/ppt/media/voltage.wav" ContentType="audio/x-wav"/>
  <Override PartName="/ppt/media/whoosh.wav" ContentType="audio/x-wav"/>
  <Override PartName="/ppt/media/image11.jpeg" ContentType="image/jpeg"/>
  <Override PartName="/ppt/media/image12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drumroll.wav" ContentType="audio/x-wav"/>
  <Override PartName="/ppt/media/bomb.wav" ContentType="audio/x-wav"/>
  <Override PartName="/ppt/media/image5.jpeg" ContentType="image/jpeg"/>
  <Override PartName="/ppt/media/explode.wav" ContentType="audio/x-wav"/>
  <Override PartName="/ppt/media/type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0474-5D74-4CDE-BC93-93C1F583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FAF0-A47F-422F-9D3C-BB77D4C1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FFC5-0547-4290-ACAA-761AFEA2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B2D7-A635-41EA-97D7-BDDE2424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BE4E6-98A2-4C5A-B4DC-8FBD3446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1A7F4-A3F0-4409-83F5-2FC2710B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9FBA2-2A84-413D-88F3-A710A79C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AD85C-69B4-4F6B-B34C-FB5C23C2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91ACE-DA77-4DDA-BAC9-B891ADA7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E4613-1DBA-4197-BCBA-5544AEA6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BA21C-E4EB-4CEC-BC3F-C72A10D3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93C1-9021-4AD5-A867-249AC96F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76508-7790-4AB3-B929-1A8DEB31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933A8-8F40-4728-B3F7-05DE4DA7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C3F6B-61B2-4738-A377-BEDB47E3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8DEF9-C9C9-4844-B31C-C91124B8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6AD9F-6997-44D1-B348-C1667C19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4AC78-6DF0-4520-B07E-A7E7A9D0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480CE-3C19-406C-BEA5-6950907A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0B8FC-3E0A-4E1F-BBB0-2A6D915C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D1734-7AEB-48BB-BB3B-0A89C439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3B776-513B-4B43-A514-D432C9CE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4446-F19A-4122-8B03-C7438DE7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E8684-AA92-4DBB-BB8F-B3AF62AE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66159-8D92-48F7-86F2-0C63166D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CC85A-D359-4507-8161-D80A5419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B9D94-8B03-461F-B0AF-1C432678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DB4DC-0630-4FAC-AE99-D337BB89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C3388-B3ED-4E79-9098-FBFC8911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88DD7-9AA6-4800-B5AF-7387735E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F6077-97F7-49B1-BC71-9B0980F8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3E304-6BAD-4D0A-B36D-87D2DD26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3A482-617F-4F18-8A8F-AEB278DD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B75F-6DB3-4FD5-AB86-AA9E2EC9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70FAB-496C-423C-AD53-D5341514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70F12-85B1-4822-8B3B-0BDD0AA5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D34D3-D7B3-4471-9610-22BF86A4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C9BC5-5E0F-4262-900E-B3AB78D9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71E0F-219B-4C31-BC64-FFFF5AA8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D2B22-5DE2-4A5D-8E92-028D7BCB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84879-E449-44A8-BDB2-0115F777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A1A5F-A2BD-4F1C-993E-96B1DDB4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680A7-75DD-480F-A55A-D7A8DC61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2BDE-152F-45D2-AD8C-CA33B4ED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BE59-39CE-41D8-9DBA-19E8F29D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5A4F-DD68-4074-9B9F-DED977F5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A835-F925-4384-886B-1003FED2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D2AB-D565-4BAC-9DBE-201127C1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5D19-0511-4262-BBFE-DCC096B0592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C3A6-32B5-4C6C-BADE-A396481005D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4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7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79C0-2386-4308-ACC7-5A9360FC0476}" type="slidenum">
              <a:rPr b="0" lang="pt-B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64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77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B308-DA5E-4847-96BE-070E5ACACD2A}" type="slidenum">
              <a:rPr b="0" lang="pt-B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pt.wikipedia.org/wiki/Bandeira_da_Guatemala" TargetMode="External"/><Relationship Id="rId4" Type="http://schemas.openxmlformats.org/officeDocument/2006/relationships/hyperlink" Target="http://pt.wikipedia.org/wiki/Bras&#227;o_de_armas_da_Guatemala" TargetMode="External"/><Relationship Id="rId5" Type="http://schemas.openxmlformats.org/officeDocument/2006/relationships/hyperlink" Target="http://pt.wikipedia.org/wiki/Hino_nacional" TargetMode="External"/><Relationship Id="rId6" Type="http://schemas.openxmlformats.org/officeDocument/2006/relationships/hyperlink" Target="http://pt.wikipedia.org/wiki/Hino_nacional_da_Guatemala" TargetMode="External"/><Relationship Id="rId7" Type="http://schemas.openxmlformats.org/officeDocument/2006/relationships/hyperlink" Target="http://pt.wikipedia.org/wiki/Lema" TargetMode="External"/><Relationship Id="rId8" Type="http://schemas.openxmlformats.org/officeDocument/2006/relationships/hyperlink" Target="http://pt.wikipedia.org/wiki/Capital" TargetMode="External"/><Relationship Id="rId9" Type="http://schemas.openxmlformats.org/officeDocument/2006/relationships/hyperlink" Target="http://pt.wikipedia.org/wiki/Cidade_da_Guatemala" TargetMode="External"/><Relationship Id="rId10" Type="http://schemas.openxmlformats.org/officeDocument/2006/relationships/hyperlink" Target="http://pt.wikipedia.org/wiki/L&#237;ngua_oficial" TargetMode="External"/><Relationship Id="rId11" Type="http://schemas.openxmlformats.org/officeDocument/2006/relationships/hyperlink" Target="http://pt.wikipedia.org/wiki/L&#237;ngua_castelhana" TargetMode="External"/><Relationship Id="rId12" Type="http://schemas.openxmlformats.org/officeDocument/2006/relationships/hyperlink" Target="http://pt.wikipedia.org/wiki/Anexo:Lista_de_pa&#237;ses_e_territ&#243;rios_por_&#225;rea" TargetMode="External"/><Relationship Id="rId13" Type="http://schemas.openxmlformats.org/officeDocument/2006/relationships/hyperlink" Target="http://pt.wikipedia.org/wiki/Quil&#243;metro_quadrado" TargetMode="External"/><Relationship Id="rId14" Type="http://schemas.openxmlformats.org/officeDocument/2006/relationships/hyperlink" Target="http://pt.wikipedia.org/wiki/Anexo:Lista_de_pa&#237;ses_e_territ&#243;rios_por_&#225;rea" TargetMode="External"/><Relationship Id="rId15" Type="http://schemas.openxmlformats.org/officeDocument/2006/relationships/hyperlink" Target="http://pt.wikipedia.org/wiki/Popula&#231;&#227;o" TargetMode="External"/><Relationship Id="rId16" Type="http://schemas.openxmlformats.org/officeDocument/2006/relationships/hyperlink" Target="http://pt.wikipedia.org/wiki/Anexo:Lista_de_pa&#237;ses_por_popula&#231;&#227;o" TargetMode="External"/><Relationship Id="rId17" Type="http://schemas.openxmlformats.org/officeDocument/2006/relationships/hyperlink" Target="http://pt.wikipedia.org/wiki/Produto_interno_bruto" TargetMode="External"/><Relationship Id="rId18" Type="http://schemas.openxmlformats.org/officeDocument/2006/relationships/hyperlink" Target="http://pt.wikipedia.org/wiki/Paridade_do_poder_de_compra" TargetMode="External"/><Relationship Id="rId19" Type="http://schemas.openxmlformats.org/officeDocument/2006/relationships/hyperlink" Target="http://pt.wikipedia.org/wiki/USD" TargetMode="External"/><Relationship Id="rId20" Type="http://schemas.openxmlformats.org/officeDocument/2006/relationships/hyperlink" Target="http://pt.wikipedia.org/wiki/Anexo:Lista_de_pa&#237;ses_por_PIB_(Paridade_do_Poder_de_Compra)" TargetMode="External"/><Relationship Id="rId21" Type="http://schemas.openxmlformats.org/officeDocument/2006/relationships/hyperlink" Target="http://pt.wikipedia.org/wiki/Renda_per_capita" TargetMode="External"/><Relationship Id="rId22" Type="http://schemas.openxmlformats.org/officeDocument/2006/relationships/hyperlink" Target="http://pt.wikipedia.org/wiki/USD" TargetMode="External"/><Relationship Id="rId23" Type="http://schemas.openxmlformats.org/officeDocument/2006/relationships/hyperlink" Target="http://pt.wikipedia.org/wiki/Anexo:Lista_de_pa&#237;ses_por_PIB_(Paridade_do_Poder_de_Compra)_per_capita" TargetMode="External"/><Relationship Id="rId24" Type="http://schemas.openxmlformats.org/officeDocument/2006/relationships/hyperlink" Target="http://pt.wikipedia.org/wiki/Indicador_social" TargetMode="External"/><Relationship Id="rId25" Type="http://schemas.openxmlformats.org/officeDocument/2006/relationships/hyperlink" Target="http://pt.wikipedia.org/wiki/&#205;ndice_de_Desenvolvimento_Humano" TargetMode="External"/><Relationship Id="rId26" Type="http://schemas.openxmlformats.org/officeDocument/2006/relationships/hyperlink" Target="http://pt.wikipedia.org/wiki/Anexo:Lista_de_pa&#237;ses_por_&#205;ndice_de_Desenvolvimento_Humano" TargetMode="External"/><Relationship Id="rId27" Type="http://schemas.openxmlformats.org/officeDocument/2006/relationships/hyperlink" Target="http://pt.wikipedia.org/wiki/Moeda" TargetMode="External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audio" Target="../media/chimes.wav"/><Relationship Id="rId31" Type="http://schemas.openxmlformats.org/officeDocument/2006/relationships/audio" Target="../media/cashreg.wav"/><Relationship Id="rId32" Type="http://schemas.openxmlformats.org/officeDocument/2006/relationships/audio" Target="../media/cashreg.wav"/><Relationship Id="rId33" Type="http://schemas.openxmlformats.org/officeDocument/2006/relationships/audio" Target="../media/laser.wav"/><Relationship Id="rId34" Type="http://schemas.openxmlformats.org/officeDocument/2006/relationships/audio" Target="../media/laser.wav"/><Relationship Id="rId35" Type="http://schemas.openxmlformats.org/officeDocument/2006/relationships/audio" Target="../media/hammer.wav"/><Relationship Id="rId36" Type="http://schemas.openxmlformats.org/officeDocument/2006/relationships/audio" Target="../media/hammer.wav"/><Relationship Id="rId37" Type="http://schemas.openxmlformats.org/officeDocument/2006/relationships/audio" Target="../media/hammer.wav"/><Relationship Id="rId38" Type="http://schemas.openxmlformats.org/officeDocument/2006/relationships/audio" Target="../media/hammer.wav"/><Relationship Id="rId39" Type="http://schemas.openxmlformats.org/officeDocument/2006/relationships/audio" Target="../media/hammer.wav"/><Relationship Id="rId40" Type="http://schemas.openxmlformats.org/officeDocument/2006/relationships/audio" Target="../media/hammer.wav"/><Relationship Id="rId41" Type="http://schemas.openxmlformats.org/officeDocument/2006/relationships/audio" Target="../media/hammer.wav"/><Relationship Id="rId42" Type="http://schemas.openxmlformats.org/officeDocument/2006/relationships/audio" Target="../media/hammer.wav"/><Relationship Id="rId43" Type="http://schemas.openxmlformats.org/officeDocument/2006/relationships/audio" Target="../media/hammer.wav"/><Relationship Id="rId44" Type="http://schemas.openxmlformats.org/officeDocument/2006/relationships/audio" Target="../media/hammer.wav"/><Relationship Id="rId45" Type="http://schemas.openxmlformats.org/officeDocument/2006/relationships/audio" Target="../media/hammer.wav"/><Relationship Id="rId46" Type="http://schemas.openxmlformats.org/officeDocument/2006/relationships/audio" Target="../media/hammer.wav"/><Relationship Id="rId47" Type="http://schemas.openxmlformats.org/officeDocument/2006/relationships/audio" Target="../media/hammer.wav"/><Relationship Id="rId4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explode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t.wikipedia.org/wiki/Am&#233;rica_Central" TargetMode="External"/><Relationship Id="rId3" Type="http://schemas.openxmlformats.org/officeDocument/2006/relationships/hyperlink" Target="http://pt.wikipedia.org/wiki/M&#233;xico" TargetMode="External"/><Relationship Id="rId4" Type="http://schemas.openxmlformats.org/officeDocument/2006/relationships/hyperlink" Target="http://pt.wikipedia.org/wiki/Belize" TargetMode="External"/><Relationship Id="rId5" Type="http://schemas.openxmlformats.org/officeDocument/2006/relationships/hyperlink" Target="http://pt.wikipedia.org/wiki/Golfo_das_Honduras" TargetMode="External"/><Relationship Id="rId6" Type="http://schemas.openxmlformats.org/officeDocument/2006/relationships/hyperlink" Target="http://pt.wikipedia.org/wiki/Honduras" TargetMode="External"/><Relationship Id="rId7" Type="http://schemas.openxmlformats.org/officeDocument/2006/relationships/hyperlink" Target="http://pt.wikipedia.org/wiki/El_Salvador" TargetMode="External"/><Relationship Id="rId8" Type="http://schemas.openxmlformats.org/officeDocument/2006/relationships/hyperlink" Target="http://pt.wikipedia.org/wiki/Oceano_Pac&#237;fico" TargetMode="External"/><Relationship Id="rId9" Type="http://schemas.openxmlformats.org/officeDocument/2006/relationships/hyperlink" Target="http://pt.wikipedia.org/wiki/Cidade_da_Guatemala" TargetMode="External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audio" Target="../media/chimes.wav"/><Relationship Id="rId13" Type="http://schemas.openxmlformats.org/officeDocument/2006/relationships/audio" Target="../media/coin.wav"/><Relationship Id="rId14" Type="http://schemas.openxmlformats.org/officeDocument/2006/relationships/audio" Target="../media/voltage.wav"/><Relationship Id="rId15" Type="http://schemas.openxmlformats.org/officeDocument/2006/relationships/audio" Target="../media/voltage.wav"/><Relationship Id="rId1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hyperlink" Target="http://pt.wikipedia.org/wiki/Ficheiro:GuatemalaWeavings79.jpg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audio" Target="../media/drumroll.wav"/><Relationship Id="rId10" Type="http://schemas.openxmlformats.org/officeDocument/2006/relationships/audio" Target="../media/bomb.wav"/><Relationship Id="rId11" Type="http://schemas.openxmlformats.org/officeDocument/2006/relationships/audio" Target="../media/bomb.wav"/><Relationship Id="rId12" Type="http://schemas.openxmlformats.org/officeDocument/2006/relationships/audio" Target="../media/bomb.wav"/><Relationship Id="rId13" Type="http://schemas.openxmlformats.org/officeDocument/2006/relationships/audio" Target="../media/bomb.wav"/><Relationship Id="rId14" Type="http://schemas.openxmlformats.org/officeDocument/2006/relationships/audio" Target="../media/bomb.wav"/><Relationship Id="rId15" Type="http://schemas.openxmlformats.org/officeDocument/2006/relationships/audio" Target="../media/bomb.wav"/><Relationship Id="rId16" Type="http://schemas.openxmlformats.org/officeDocument/2006/relationships/audio" Target="../media/explode.wav"/><Relationship Id="rId17" Type="http://schemas.openxmlformats.org/officeDocument/2006/relationships/audio" Target="../media/explode.wav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t.wikipedia.org/wiki/Religi&#227;o" TargetMode="External"/><Relationship Id="rId3" Type="http://schemas.openxmlformats.org/officeDocument/2006/relationships/hyperlink" Target="http://pt.wikipedia.org/wiki/Catolicismo_romano" TargetMode="External"/><Relationship Id="rId4" Type="http://schemas.openxmlformats.org/officeDocument/2006/relationships/hyperlink" Target="http://pt.wikipedia.org/wiki/Protestantismo" TargetMode="External"/><Relationship Id="rId5" Type="http://schemas.openxmlformats.org/officeDocument/2006/relationships/audio" Target="../media/explod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t.wikipedia.org/wiki/Latino" TargetMode="External"/><Relationship Id="rId3" Type="http://schemas.openxmlformats.org/officeDocument/2006/relationships/hyperlink" Target="http://pt.wikipedia.org/wiki/Mesti&#231;o" TargetMode="External"/><Relationship Id="rId4" Type="http://schemas.openxmlformats.org/officeDocument/2006/relationships/hyperlink" Target="http://pt.wikipedia.org/wiki/Amer&#237;ndio" TargetMode="External"/><Relationship Id="rId5" Type="http://schemas.openxmlformats.org/officeDocument/2006/relationships/hyperlink" Target="http://pt.wikipedia.org/wiki/Maia" TargetMode="External"/><Relationship Id="rId6" Type="http://schemas.openxmlformats.org/officeDocument/2006/relationships/hyperlink" Target="http://pt.wikipedia.org/w/index.php?title=Garifuna&amp;action=edit&amp;redlink=1" TargetMode="External"/><Relationship Id="rId7" Type="http://schemas.openxmlformats.org/officeDocument/2006/relationships/hyperlink" Target="http://pt.wikipedia.org/wiki/L&#237;ngua_espanhola" TargetMode="External"/><Relationship Id="rId8" Type="http://schemas.openxmlformats.org/officeDocument/2006/relationships/hyperlink" Target="http://pt.wikipedia.org/wiki/L&#237;ngua_maia" TargetMode="External"/><Relationship Id="rId9" Type="http://schemas.openxmlformats.org/officeDocument/2006/relationships/hyperlink" Target="http://pt.wikipedia.org/wiki/1996" TargetMode="External"/><Relationship Id="rId10" Type="http://schemas.openxmlformats.org/officeDocument/2006/relationships/audio" Target="../media/hammer.wav"/><Relationship Id="rId11" Type="http://schemas.openxmlformats.org/officeDocument/2006/relationships/audio" Target="../media/wind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audio" Target="../media/wind.wav"/><Relationship Id="rId1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t.wikipedia.org/wiki/PIB" TargetMode="External"/><Relationship Id="rId3" Type="http://schemas.openxmlformats.org/officeDocument/2006/relationships/hyperlink" Target="http://pt.wikipedia.org/wiki/Caf&#233;" TargetMode="External"/><Relationship Id="rId4" Type="http://schemas.openxmlformats.org/officeDocument/2006/relationships/hyperlink" Target="http://pt.wikipedia.org/wiki/A&#231;&#250;car" TargetMode="External"/><Relationship Id="rId5" Type="http://schemas.openxmlformats.org/officeDocument/2006/relationships/hyperlink" Target="http://pt.wikipedia.org/wiki/Bananas" TargetMode="External"/><Relationship Id="rId6" Type="http://schemas.openxmlformats.org/officeDocument/2006/relationships/hyperlink" Target="http://pt.wikipedia.org/wiki/Guatemala#cite_note-2#cite_note-2" TargetMode="External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omb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t.wikipedia.org/wiki/Pol&#237;tica_da_Guatemala" TargetMode="External"/><Relationship Id="rId3" Type="http://schemas.openxmlformats.org/officeDocument/2006/relationships/hyperlink" Target="http://pt.wikipedia.org/wiki/Presidente_da_Guatemala" TargetMode="External"/><Relationship Id="rId4" Type="http://schemas.openxmlformats.org/officeDocument/2006/relationships/hyperlink" Target="http://pt.wikipedia.org/wiki/Organiza&#231;&#227;o_pol&#237;tico-administrativa_da_Guatemala" TargetMode="External"/><Relationship Id="rId5" Type="http://schemas.openxmlformats.org/officeDocument/2006/relationships/hyperlink" Target="http://pt.wikipedia.org/wiki/Alta_Verapaz" TargetMode="External"/><Relationship Id="rId6" Type="http://schemas.openxmlformats.org/officeDocument/2006/relationships/hyperlink" Target="http://pt.wikipedia.org/wiki/Baja_Verapaz" TargetMode="External"/><Relationship Id="rId7" Type="http://schemas.openxmlformats.org/officeDocument/2006/relationships/hyperlink" Target="http://pt.wikipedia.org/wiki/Chimaltenango" TargetMode="External"/><Relationship Id="rId8" Type="http://schemas.openxmlformats.org/officeDocument/2006/relationships/hyperlink" Target="http://pt.wikipedia.org/wiki/Chiquimula" TargetMode="External"/><Relationship Id="rId9" Type="http://schemas.openxmlformats.org/officeDocument/2006/relationships/hyperlink" Target="http://pt.wikipedia.org/wiki/El_Progreso" TargetMode="External"/><Relationship Id="rId10" Type="http://schemas.openxmlformats.org/officeDocument/2006/relationships/hyperlink" Target="http://pt.wikipedia.org/wiki/Escuintla" TargetMode="External"/><Relationship Id="rId11" Type="http://schemas.openxmlformats.org/officeDocument/2006/relationships/hyperlink" Target="http://pt.wikipedia.org/wiki/Huehuetenango" TargetMode="External"/><Relationship Id="rId12" Type="http://schemas.openxmlformats.org/officeDocument/2006/relationships/hyperlink" Target="http://pt.wikipedia.org/wiki/Izabal" TargetMode="External"/><Relationship Id="rId13" Type="http://schemas.openxmlformats.org/officeDocument/2006/relationships/hyperlink" Target="http://pt.wikipedia.org/wiki/Jalapa" TargetMode="External"/><Relationship Id="rId14" Type="http://schemas.openxmlformats.org/officeDocument/2006/relationships/hyperlink" Target="http://pt.wikipedia.org/wiki/Jutiapa" TargetMode="External"/><Relationship Id="rId15" Type="http://schemas.openxmlformats.org/officeDocument/2006/relationships/hyperlink" Target="http://pt.wikipedia.org/wiki/Pet&#233;n" TargetMode="External"/><Relationship Id="rId16" Type="http://schemas.openxmlformats.org/officeDocument/2006/relationships/hyperlink" Target="http://pt.wikipedia.org/wiki/Quetzaltenango" TargetMode="External"/><Relationship Id="rId17" Type="http://schemas.openxmlformats.org/officeDocument/2006/relationships/hyperlink" Target="http://pt.wikipedia.org/wiki/El_Quich&#233;" TargetMode="External"/><Relationship Id="rId18" Type="http://schemas.openxmlformats.org/officeDocument/2006/relationships/hyperlink" Target="http://pt.wikipedia.org/wiki/Retalhuleu" TargetMode="External"/><Relationship Id="rId19" Type="http://schemas.openxmlformats.org/officeDocument/2006/relationships/hyperlink" Target="http://pt.wikipedia.org/w/index.php?title=Sacatepequez&amp;action=edit&amp;redlink=1" TargetMode="External"/><Relationship Id="rId20" Type="http://schemas.openxmlformats.org/officeDocument/2006/relationships/hyperlink" Target="http://pt.wikipedia.org/wiki/San_Marcos" TargetMode="External"/><Relationship Id="rId21" Type="http://schemas.openxmlformats.org/officeDocument/2006/relationships/hyperlink" Target="http://pt.wikipedia.org/wiki/Santa_Rosa" TargetMode="External"/><Relationship Id="rId22" Type="http://schemas.openxmlformats.org/officeDocument/2006/relationships/hyperlink" Target="http://pt.wikipedia.org/w/index.php?title=Solola&amp;action=edit&amp;redlink=1" TargetMode="External"/><Relationship Id="rId23" Type="http://schemas.openxmlformats.org/officeDocument/2006/relationships/hyperlink" Target="http://pt.wikipedia.org/w/index.php?title=Suchitepequez&amp;action=edit&amp;redlink=1" TargetMode="External"/><Relationship Id="rId24" Type="http://schemas.openxmlformats.org/officeDocument/2006/relationships/hyperlink" Target="http://pt.wikipedia.org/w/index.php?title=Totonicapan&amp;action=edit&amp;redlink=1" TargetMode="External"/><Relationship Id="rId25" Type="http://schemas.openxmlformats.org/officeDocument/2006/relationships/hyperlink" Target="http://pt.wikipedia.org/wiki/Zacapa" TargetMode="External"/><Relationship Id="rId26" Type="http://schemas.openxmlformats.org/officeDocument/2006/relationships/audio" Target="../media/breeze.wav"/><Relationship Id="rId27" Type="http://schemas.openxmlformats.org/officeDocument/2006/relationships/audio" Target="../media/whoosh.wav"/><Relationship Id="rId28" Type="http://schemas.openxmlformats.org/officeDocument/2006/relationships/audio" Target="../media/whoosh.wav"/><Relationship Id="rId29" Type="http://schemas.openxmlformats.org/officeDocument/2006/relationships/audio" Target="../media/whoosh.wav"/><Relationship Id="rId30" Type="http://schemas.openxmlformats.org/officeDocument/2006/relationships/audio" Target="../media/whoosh.wav"/><Relationship Id="rId3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t.wikipedia.org/wiki/S&#233;culo_IV" TargetMode="External"/><Relationship Id="rId3" Type="http://schemas.openxmlformats.org/officeDocument/2006/relationships/hyperlink" Target="http://pt.wikipedia.org/wiki/S&#233;culo_XI" TargetMode="External"/><Relationship Id="rId4" Type="http://schemas.openxmlformats.org/officeDocument/2006/relationships/hyperlink" Target="http://pt.wikipedia.org/wiki/Regi&#227;o" TargetMode="External"/><Relationship Id="rId5" Type="http://schemas.openxmlformats.org/officeDocument/2006/relationships/hyperlink" Target="http://pt.wikipedia.org/w/index.php?title=P&#233;ten&amp;action=edit&amp;redlink=1" TargetMode="External"/><Relationship Id="rId6" Type="http://schemas.openxmlformats.org/officeDocument/2006/relationships/hyperlink" Target="http://pt.wikipedia.org/wiki/Civiliza&#231;&#227;o_Maia" TargetMode="External"/><Relationship Id="rId7" Type="http://schemas.openxmlformats.org/officeDocument/2006/relationships/hyperlink" Target="http://pt.wikipedia.org/wiki/Espanha" TargetMode="External"/><Relationship Id="rId8" Type="http://schemas.openxmlformats.org/officeDocument/2006/relationships/hyperlink" Target="http://pt.wikipedia.org/wiki/1523" TargetMode="External"/><Relationship Id="rId9" Type="http://schemas.openxmlformats.org/officeDocument/2006/relationships/hyperlink" Target="http://pt.wikipedia.org/wiki/1697" TargetMode="External"/><Relationship Id="rId10" Type="http://schemas.openxmlformats.org/officeDocument/2006/relationships/hyperlink" Target="http://pt.wikipedia.org/wiki/1821" TargetMode="External"/><Relationship Id="rId11" Type="http://schemas.openxmlformats.org/officeDocument/2006/relationships/hyperlink" Target="http://pt.wikipedia.org/wiki/Col&#244;nia" TargetMode="External"/><Relationship Id="rId12" Type="http://schemas.openxmlformats.org/officeDocument/2006/relationships/hyperlink" Target="http://pt.wikipedia.org/wiki/Espanha" TargetMode="External"/><Relationship Id="rId13" Type="http://schemas.openxmlformats.org/officeDocument/2006/relationships/hyperlink" Target="http://pt.wikipedia.org/wiki/S&#233;culo_XX" TargetMode="External"/><Relationship Id="rId14" Type="http://schemas.openxmlformats.org/officeDocument/2006/relationships/hyperlink" Target="http://pt.wikipedia.org/wiki/Governo" TargetMode="External"/><Relationship Id="rId15" Type="http://schemas.openxmlformats.org/officeDocument/2006/relationships/hyperlink" Target="http://pt.wikipedia.org/wiki/Guerra_civil" TargetMode="External"/><Relationship Id="rId16" Type="http://schemas.openxmlformats.org/officeDocument/2006/relationships/hyperlink" Target="http://pt.wikipedia.org/wiki/Ano" TargetMode="External"/><Relationship Id="rId17" Type="http://schemas.openxmlformats.org/officeDocument/2006/relationships/hyperlink" Target="http://pt.wikipedia.org/wiki/1996" TargetMode="External"/><Relationship Id="rId18" Type="http://schemas.openxmlformats.org/officeDocument/2006/relationships/hyperlink" Target="http://pt.wikipedia.org/wiki/Paz" TargetMode="External"/><Relationship Id="rId19" Type="http://schemas.openxmlformats.org/officeDocument/2006/relationships/hyperlink" Target="http://pt.wikipedia.org/wiki/Cem" TargetMode="External"/><Relationship Id="rId20" Type="http://schemas.openxmlformats.org/officeDocument/2006/relationships/hyperlink" Target="http://pt.wikipedia.org/wiki/Mil" TargetMode="External"/><Relationship Id="rId21" Type="http://schemas.openxmlformats.org/officeDocument/2006/relationships/hyperlink" Target="http://pt.wikipedia.org/wiki/Pessoa" TargetMode="External"/><Relationship Id="rId22" Type="http://schemas.openxmlformats.org/officeDocument/2006/relationships/hyperlink" Target="http://pt.wikipedia.org/wiki/Milh&#227;o" TargetMode="External"/><Relationship Id="rId23" Type="http://schemas.openxmlformats.org/officeDocument/2006/relationships/hyperlink" Target="http://pt.wikipedia.org/wiki/Refugiado" TargetMode="External"/><Relationship Id="rId24" Type="http://schemas.openxmlformats.org/officeDocument/2006/relationships/audio" Target="../media/click.wav"/><Relationship Id="rId25" Type="http://schemas.openxmlformats.org/officeDocument/2006/relationships/audio" Target="../media/suction.wav"/><Relationship Id="rId26" Type="http://schemas.openxmlformats.org/officeDocument/2006/relationships/audio" Target="../media/suction.wav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9144000" cy="50101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Guatemal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250920" y="1773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pública da Guatemala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Bandeira da Guatemala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: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Brasão das Arma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Hino nacional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: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Guatemala Feliz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Lema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: “Livre, cresça fecundo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Capital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: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Cidade da Guatema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Língua oficial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: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Espanh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Áre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Total 108.890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km²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 (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106º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); Água (%)0,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Populaçã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 - Estimativa de 2007: 12.728.111 hab. (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62º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)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PIB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base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PPC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)Estimativa de 2005 - Total US$ 63,78 bilhões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US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71º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) -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1"/>
              </a:rPr>
              <a:t>Per capita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US$ 4,155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2"/>
              </a:rPr>
              <a:t>US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3"/>
              </a:rPr>
              <a:t>116º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4"/>
              </a:rPr>
              <a:t>Indicadores sociai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-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5"/>
              </a:rPr>
              <a:t>IDH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(2007)0,689 (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6"/>
              </a:rPr>
              <a:t>118º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) – méd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7"/>
              </a:rPr>
              <a:t>Moeda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Quetza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[[ISO 4217|]]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uso horári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UTC−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Website governamental: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http://www.guatemala.gob.gt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8"/>
          <a:stretch/>
        </p:blipFill>
        <p:spPr>
          <a:xfrm>
            <a:off x="0" y="-27000"/>
            <a:ext cx="2987640" cy="186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34920" y="1954080"/>
          <a:ext cx="2881440" cy="395280"/>
        </p:xfrm>
        <a:graphic>
          <a:graphicData uri="http://schemas.openxmlformats.org/drawingml/2006/table">
            <a:tbl>
              <a:tblPr/>
              <a:tblGrid>
                <a:gridCol w="2881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deira da Guatema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" descr=""/>
          <p:cNvPicPr/>
          <p:nvPr/>
        </p:nvPicPr>
        <p:blipFill>
          <a:blip r:embed="rId29"/>
          <a:stretch/>
        </p:blipFill>
        <p:spPr>
          <a:xfrm>
            <a:off x="6516720" y="22320"/>
            <a:ext cx="2627280" cy="19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"/>
          <p:cNvGraphicFramePr/>
          <p:nvPr/>
        </p:nvGraphicFramePr>
        <p:xfrm>
          <a:off x="6419880" y="1881360"/>
          <a:ext cx="2616120" cy="395280"/>
        </p:xfrm>
        <a:graphic>
          <a:graphicData uri="http://schemas.openxmlformats.org/drawingml/2006/table">
            <a:tbl>
              <a:tblPr/>
              <a:tblGrid>
                <a:gridCol w="261612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rasão de Arm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5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50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500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500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500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50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500"/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50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.E.Senador Filinto Mulle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unos: Adriano; Dav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º: 1; 9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8º Ano 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fessor (a): Marlene Peixo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220"/>
                            </p:stCondLst>
                            <p:childTnLst>
                              <p:par>
                                <p:cTn id="41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720"/>
                            </p:stCondLst>
                            <p:childTnLst>
                              <p:par>
                                <p:cTn id="42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220"/>
                            </p:stCondLst>
                            <p:childTnLst>
                              <p:par>
                                <p:cTn id="43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720"/>
                            </p:stCondLst>
                            <p:childTnLst>
                              <p:par>
                                <p:cTn id="4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calizaçã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358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pt-PT" sz="1800" spc="-1" strike="noStrike">
                <a:solidFill>
                  <a:srgbClr val="ffffff"/>
                </a:solidFill>
                <a:latin typeface="Tahoma"/>
              </a:rPr>
              <a:t>Guatemala</a:t>
            </a: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 é um país da </a:t>
            </a:r>
            <a:r>
              <a:rPr b="0" lang="pt-PT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América Central</a:t>
            </a: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, limitado a oeste e a norte pelo </a:t>
            </a:r>
            <a:r>
              <a:rPr b="0" lang="pt-PT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México</a:t>
            </a: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, a leste pelo </a:t>
            </a:r>
            <a:r>
              <a:rPr b="0" lang="pt-PT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Belize</a:t>
            </a: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, pelo </a:t>
            </a:r>
            <a:r>
              <a:rPr b="0" lang="pt-PT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Golfo das Honduras</a:t>
            </a: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 e pelas </a:t>
            </a:r>
            <a:r>
              <a:rPr b="0" lang="pt-PT" sz="1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Honduras</a:t>
            </a: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 e a sul por </a:t>
            </a:r>
            <a:r>
              <a:rPr b="0" lang="pt-PT" sz="18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El Salvador</a:t>
            </a: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 e pelo </a:t>
            </a:r>
            <a:r>
              <a:rPr b="0" lang="pt-PT" sz="18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Oceano Pacífico</a:t>
            </a: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. Capital: </a:t>
            </a:r>
            <a:r>
              <a:rPr b="0" lang="pt-PT" sz="18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Cidade da Guatemala</a:t>
            </a: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0"/>
          <a:stretch/>
        </p:blipFill>
        <p:spPr>
          <a:xfrm>
            <a:off x="684360" y="4221000"/>
            <a:ext cx="3962160" cy="19814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1"/>
          <a:stretch/>
        </p:blipFill>
        <p:spPr>
          <a:xfrm>
            <a:off x="5397480" y="2924280"/>
            <a:ext cx="348156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ff"/>
                </a:solidFill>
                <a:latin typeface="Tahoma"/>
              </a:rPr>
              <a:t>Cultu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2881080" cy="2089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844640"/>
            <a:ext cx="4535640" cy="277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6" name=""/>
          <p:cNvGraphicFramePr/>
          <p:nvPr/>
        </p:nvGraphicFramePr>
        <p:xfrm>
          <a:off x="5003640" y="1341360"/>
          <a:ext cx="2400120" cy="395280"/>
        </p:xfrm>
        <a:graphic>
          <a:graphicData uri="http://schemas.openxmlformats.org/drawingml/2006/table">
            <a:tbl>
              <a:tblPr/>
              <a:tblGrid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gricultu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16360" y="4221000"/>
          <a:ext cx="2760840" cy="395280"/>
        </p:xfrm>
        <a:graphic>
          <a:graphicData uri="http://schemas.openxmlformats.org/drawingml/2006/table">
            <a:tbl>
              <a:tblPr/>
              <a:tblGrid>
                <a:gridCol w="2760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tesana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0" y="4653000"/>
            <a:ext cx="2179800" cy="2205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6"/>
          <a:stretch/>
        </p:blipFill>
        <p:spPr>
          <a:xfrm>
            <a:off x="6156360" y="4724280"/>
            <a:ext cx="1728720" cy="21337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2195640" y="4653000"/>
            <a:ext cx="1944720" cy="2205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8"/>
          <a:stretch/>
        </p:blipFill>
        <p:spPr>
          <a:xfrm>
            <a:off x="4211640" y="4724280"/>
            <a:ext cx="1908000" cy="213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468360" y="1413000"/>
          <a:ext cx="3097080" cy="395280"/>
        </p:xfrm>
        <a:graphic>
          <a:graphicData uri="http://schemas.openxmlformats.org/drawingml/2006/table">
            <a:tbl>
              <a:tblPr/>
              <a:tblGrid>
                <a:gridCol w="3097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peçaria artesanal</a:t>
                      </a:r>
                      <a:r>
                        <a:rPr b="1" lang="pt-PT" sz="2000" spc="-1" strike="noStrike">
                          <a:solidFill>
                            <a:srgbClr val="ccffff"/>
                          </a:solidFill>
                          <a:latin typeface="Tahoma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ff"/>
                </a:solidFill>
                <a:latin typeface="Tahoma"/>
              </a:rPr>
              <a:t>Religiã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pt-PT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religião</a:t>
            </a: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 predominante é o </a:t>
            </a:r>
            <a:r>
              <a:rPr b="0" lang="pt-PT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catolicismo romano</a:t>
            </a: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, ao qual foram incorporadas formas tradicionais de culto por muitos guatemaltecos indígenas. Estima-se que o </a:t>
            </a:r>
            <a:r>
              <a:rPr b="0" lang="pt-PT" sz="2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protestantismo</a:t>
            </a: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 e as religiões maias tradicionais sejam praticados por 40% e 1% da população, respectiv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Católicos-romanos - 58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Protestantes - 4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Religiões maias tradicionais - 1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Muçulmanos - 0,7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Budistas e Hinduístas - 0,2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Outras religiões - 0,1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ff"/>
                </a:solidFill>
                <a:latin typeface="Tahoma"/>
              </a:rPr>
              <a:t>Demograf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Os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latinos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mestiços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ameríndios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ocidentalizados) e brancos compõem cerca de 59,4% da população da Guatemala. Os ameríndios não assimilados, descendentes dos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maias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constituem 40,6% da população.Também há descendentes de africanos, especialmente ao longo da costa caribenha, em especial os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garifuna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Embora a maior parte da população da Guatemala seja rural, a urbanização está em aceleraçã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Embora a língua oficial seja o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espanhol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ela não é universalmente compreendida entre a população indígena; ainda são faladas várias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línguas maias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em especial em áreas rurai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Os acordos de paz assinados em Dezembro de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1996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determinam a tradução de alguns documentos oficiais e de materiais de voto para várias línguas indígenas.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ff"/>
                </a:solidFill>
                <a:latin typeface="Tahoma"/>
              </a:rPr>
              <a:t>Econom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A economia da Guatemala baseia-se predominantemente na agricultura. Um quarto do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PIB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dois terços das exportações e metade da força de trabalho do país provém do camp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Os principais produtos sã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café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açúcar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bananas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O presidente Arzu (1996-2000) trabalhou para implementar um programa de abertura comercial e para modernizar a política do país. Em 1996 foi assinado o acordo de paz que pôs fim à guerra civil que durava há 36 an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A distribuição de riquezas do país é bastante desigual, com 52,6% da população abaixo da linha da pobreza (2007).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[3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ff"/>
                </a:solidFill>
                <a:latin typeface="Tahoma"/>
              </a:rPr>
              <a:t>Geograf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A Guatemala é o terceiro maior país da América Central. Limita-se ao Norte e a Oeste com o México, ao Sul com o oceano Pacífico e a Leste com Honduras, Belize e El Salvador. Assim como outros países centro-americanos, a Guatemala possui diversos lagos, cadeias de montanhas, que são prolongamento da Serra Madre mexicana, e grandes vulcões – alguns chegam a atingir mais de 4.000m de altitude e ainda estão ativos, como o Tajumulco, de 4.210m e o Tacaná, de 4.093m. Ao Sul e a Leste as altitudes são menores. O Vale Motagua, na planície de El Petén, é um dos principais campos de fósseis de dinossauros. É também a região mais fértil do país e onde se concentram as principais atividades econômicas, com destaque para o cultivo do milho e a banana. Na região próxima ao Pacífico, as plantações de cana-de-açúcar e café são as mais importantes. A temperatura é quente nas planícies e fria nas montanhas. No litoral do Pacífico, o clima é o tropical, e na costa caribenha os termômetros chegam a atingir 38ºC. Na floresta da planície de El Petén o clima é quente, e o grau de umidade varia de acordo com a época do an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6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ff"/>
                </a:solidFill>
                <a:latin typeface="Tahoma"/>
              </a:rPr>
              <a:t>Polític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Política da Guatemala</a:t>
            </a:r>
            <a:r>
              <a:rPr b="0" i="1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Presidente da Guatemala</a:t>
            </a:r>
            <a:r>
              <a:rPr b="0" i="1" lang="pt-PT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O parlamento da Guatemala, o Congresso da República, com 113 assentos, é eleito cada quatro anos, simultaneamente com as eleições presidenciais. O presidente atua como chefe de Estado e do governo. Em suas tarefas executivas é auxiliado por um gabinete de ministros que são designados pelo próprio presid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Organização político-administrativa da Guatema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A Guatemala está dividida em 22 departamentos (nome que se dá as divisões nesse país). Eles são: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Alta Verapaz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Baja Verapaz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Chimaltenango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Chiquimula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El Progreso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Escuintla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pt-PT" sz="2000" spc="-1" strike="noStrike">
                <a:solidFill>
                  <a:srgbClr val="ffffff"/>
                </a:solidFill>
                <a:latin typeface="Tahoma"/>
              </a:rPr>
              <a:t>Guatemala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Huehuetenango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Izabal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Jalapa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Jutiapa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Petén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Quetzaltenango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El Quiché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Retalhuleu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Sacatepequez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San Marcos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21"/>
              </a:rPr>
              <a:t>Santa Rosa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22"/>
              </a:rPr>
              <a:t>Solola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23"/>
              </a:rPr>
              <a:t>Suchitepequez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24"/>
              </a:rPr>
              <a:t>Totonicapan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25"/>
              </a:rPr>
              <a:t>Zacapa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ff"/>
                </a:solidFill>
                <a:latin typeface="Tahoma"/>
              </a:rPr>
              <a:t>Histór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Do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século IV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ao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século XI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as terras baixas da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região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Péten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foram o coração da florescente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civilização Maia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. Depois do colapso dos estados das terras baixas, os estados Maias do altiplano central continuaram existindo mais ou menos organizados. Embora os conquistadores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espanhóis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tenham chegado à região em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1523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houve uma feroz resistência das cidades-estado maias e a última só foi efetivamente conquistada em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169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A Guatemala, até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1821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foi uma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colônia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da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Espanha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. Durante a segunda metade do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Século XX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experimentou uma variedade de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governos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militares e civis, sendo uma dessas de Jacobo Arbenz - que fora retirado do poder por ameaçar fazer reforma agrária em terras da United Fruit Company; desse modo sofreu um golpe com intervenção estadunidense, em 1953, colocando um ponto final na política de Boa Vizinhança, caracterizada pelo governo Roosevelt, bem como uma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guerra civil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que durou 36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anos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. Em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1996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, o governo assinou um acordo da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paz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terminando formalmente com o conflito, que levou à morte de mais de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cem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mil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21"/>
              </a:rPr>
              <a:t>pessoas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e tinha criado um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22"/>
              </a:rPr>
              <a:t>milhão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pt-PT" sz="2000" spc="-1" strike="noStrike" u="sng">
                <a:solidFill>
                  <a:srgbClr val="ffcc00"/>
                </a:solidFill>
                <a:uFillTx/>
                <a:latin typeface="Tahoma"/>
                <a:hlinkClick r:id="rId23"/>
              </a:rPr>
              <a:t>refugiados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77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770" fill="hold"/>
                                        <p:tgtEl>
                                          <p:spTgt spid="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3T00:26:57Z</dcterms:created>
  <dc:creator>Escola</dc:creator>
  <dc:description/>
  <dc:language>en-US</dc:language>
  <cp:lastModifiedBy>Escola</cp:lastModifiedBy>
  <dcterms:modified xsi:type="dcterms:W3CDTF">2009-09-10T23:54:23Z</dcterms:modified>
  <cp:revision>12</cp:revision>
  <dc:subject/>
  <dc:title>Guatemala</dc:title>
</cp:coreProperties>
</file>